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EBC3-603F-4589-9705-7AFEB5308F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4487-F030-49B4-9A3D-C6E5441C73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0B1F-2816-4A02-BC68-6B2E166688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3D44-409E-497A-ACD5-D7D6996EB6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ов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763C-969D-4B6A-B3B8-C3B30C1730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0839-9048-47B4-9453-55116B2474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EEE0-6DEF-4B66-8CF4-C2A4A98A3B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Спасибо всем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036E-0AF6-4C88-8D21-7F34386082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A0ED-9585-4D12-BFD6-178304CAF9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AA17-4FDB-419E-9494-4A29315D27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F4A9-C887-4601-A7BA-B9E0178436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A688-BA0F-4366-9407-9E81BB47D8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3B72-3F1D-46BF-8A29-F338EEA2FC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условия, при которых возникают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i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»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8318-0D60-4696-BFB2-01BF25FD51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» 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3564-05B2-4825-B0BD-513009478B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C3E-8E87-4F70-98B6-633D3FAA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1FE-EF54-4518-8348-3A9C925C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987-39A7-4B36-AF95-39523A1F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2DF-D047-45DC-BAB8-F327C349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AB02-D277-479A-B54E-ED1499EC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25AF-D1C9-4677-AE38-FBF9C759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1B25-C2B9-487A-BD73-3AEF930E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DF0F-447F-4B36-9F8A-AF9A8607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A7EF-3443-422F-868F-5EF7D4D0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322F-C5B4-4449-9936-D6F0CC5A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A987-A027-41EE-B7A3-7AED2E7F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43E8-374A-4D05-B253-4DEA3198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6153-1716-48F3-B1E2-C02EA6F2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C6B5-ADE6-4C6C-B31E-7015F552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FD92-7139-496E-AAFD-29D92982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C5F8-FFDD-4368-B88E-ADFADCB6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6416-945E-49A4-9516-F38CC61E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61D-51F3-4D2C-83CF-5EF15E8A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033-50BF-4C58-A440-7C3638BD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DC3-2EAF-4C4B-90F8-597D3AC1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843B-F13B-4606-B8EA-51CE2371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3845-BF87-408A-8BA9-1A75866B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BD8D-1C6F-44AA-851F-05D52283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EC6-C3E1-4ADD-91EB-CDEFBF68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4BD2-BD18-49B8-9444-9F7DD168903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A5FF-FD81-4B9B-9529-420B2F87C68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file:///../../&#1059;&#1095;&#1080;&#1090;&#1077;&#1083;&#1103;/&#1050;&#1083;&#1080;&#1085;&#1086;&#1074;&#1072;/you_people/&#1054;&#1090;&#1082;&#1088;_&#1091;&#1088;&#1086;&#1082;/&#1055;&#1088;&#1080;&#1082;&#1072;&#1079;%20.doc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3640" cy="817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1619280" y="6206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3059280" y="289080"/>
            <a:ext cx="3168360" cy="836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708360" y="3286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Отрас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395280" y="285444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3348000" y="2781360"/>
            <a:ext cx="2448000" cy="100800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6443640" y="2708280"/>
            <a:ext cx="2448000" cy="936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665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12589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21240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37083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442764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5148360" y="6165720"/>
            <a:ext cx="433440" cy="50328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6732720" y="6164280"/>
            <a:ext cx="43308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82422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75247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5"/>
          <p:cNvSpPr/>
          <p:nvPr/>
        </p:nvSpPr>
        <p:spPr>
          <a:xfrm>
            <a:off x="4643280" y="2205000"/>
            <a:ext cx="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6"/>
          <p:cNvSpPr/>
          <p:nvPr/>
        </p:nvSpPr>
        <p:spPr>
          <a:xfrm>
            <a:off x="6372360" y="1917720"/>
            <a:ext cx="1224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7"/>
          <p:cNvSpPr/>
          <p:nvPr/>
        </p:nvSpPr>
        <p:spPr>
          <a:xfrm flipH="1">
            <a:off x="1547640" y="2058840"/>
            <a:ext cx="93672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41"/>
          <p:cNvSpPr/>
          <p:nvPr/>
        </p:nvSpPr>
        <p:spPr>
          <a:xfrm flipH="1">
            <a:off x="610920" y="5445000"/>
            <a:ext cx="21564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42"/>
          <p:cNvSpPr/>
          <p:nvPr/>
        </p:nvSpPr>
        <p:spPr>
          <a:xfrm flipH="1">
            <a:off x="694800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43"/>
          <p:cNvSpPr/>
          <p:nvPr/>
        </p:nvSpPr>
        <p:spPr>
          <a:xfrm flipH="1">
            <a:off x="385092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44"/>
          <p:cNvSpPr/>
          <p:nvPr/>
        </p:nvSpPr>
        <p:spPr>
          <a:xfrm>
            <a:off x="147636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5"/>
          <p:cNvSpPr/>
          <p:nvPr/>
        </p:nvSpPr>
        <p:spPr>
          <a:xfrm>
            <a:off x="774072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46"/>
          <p:cNvSpPr/>
          <p:nvPr/>
        </p:nvSpPr>
        <p:spPr>
          <a:xfrm>
            <a:off x="4643280" y="501336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53"/>
          <p:cNvSpPr/>
          <p:nvPr/>
        </p:nvSpPr>
        <p:spPr>
          <a:xfrm>
            <a:off x="2195640" y="5373720"/>
            <a:ext cx="14292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54"/>
          <p:cNvSpPr/>
          <p:nvPr/>
        </p:nvSpPr>
        <p:spPr>
          <a:xfrm>
            <a:off x="838836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5"/>
          <p:cNvSpPr/>
          <p:nvPr/>
        </p:nvSpPr>
        <p:spPr>
          <a:xfrm>
            <a:off x="521964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7"/>
          <p:cNvSpPr/>
          <p:nvPr/>
        </p:nvSpPr>
        <p:spPr>
          <a:xfrm>
            <a:off x="395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59"/>
          <p:cNvSpPr/>
          <p:nvPr/>
        </p:nvSpPr>
        <p:spPr>
          <a:xfrm>
            <a:off x="0" y="40831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пределенный вид общественные отно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3"/>
          <p:cNvSpPr/>
          <p:nvPr/>
        </p:nvSpPr>
        <p:spPr>
          <a:xfrm>
            <a:off x="250920" y="3357720"/>
            <a:ext cx="183672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торон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держ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1835280" y="44280"/>
            <a:ext cx="5184720" cy="1125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35280" y="-1800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рудовое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216000" y="1846440"/>
            <a:ext cx="248436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рудо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го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6518160" y="1701720"/>
            <a:ext cx="2374920" cy="935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плата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3421080" y="177336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ремя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отды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732720" y="278136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H="1">
            <a:off x="250920" y="981000"/>
            <a:ext cx="194472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 flipH="1">
            <a:off x="1834920" y="1052640"/>
            <a:ext cx="936360" cy="792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5651640" y="1268280"/>
            <a:ext cx="288720" cy="100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2842920" y="1268280"/>
            <a:ext cx="64908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>
            <a:off x="3203280" y="1266840"/>
            <a:ext cx="431640" cy="938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5724360" y="1197000"/>
            <a:ext cx="57636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>
            <a:off x="7093080" y="836640"/>
            <a:ext cx="15825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>
            <a:off x="6588000" y="907920"/>
            <a:ext cx="1079640" cy="792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0"/>
          <p:cNvSpPr/>
          <p:nvPr/>
        </p:nvSpPr>
        <p:spPr>
          <a:xfrm>
            <a:off x="4572000" y="1197000"/>
            <a:ext cx="0" cy="576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4"/>
          <p:cNvSpPr/>
          <p:nvPr/>
        </p:nvSpPr>
        <p:spPr>
          <a:xfrm>
            <a:off x="252360" y="4508640"/>
            <a:ext cx="165564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5"/>
          <p:cNvSpPr/>
          <p:nvPr/>
        </p:nvSpPr>
        <p:spPr>
          <a:xfrm>
            <a:off x="324000" y="5734080"/>
            <a:ext cx="1655640" cy="57456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 Т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6"/>
          <p:cNvSpPr/>
          <p:nvPr/>
        </p:nvSpPr>
        <p:spPr>
          <a:xfrm>
            <a:off x="3203640" y="2997360"/>
            <a:ext cx="244800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должи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7"/>
          <p:cNvSpPr/>
          <p:nvPr/>
        </p:nvSpPr>
        <p:spPr>
          <a:xfrm>
            <a:off x="3203640" y="3787920"/>
            <a:ext cx="2376360" cy="6490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епол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бочи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3203640" y="4581360"/>
            <a:ext cx="2448000" cy="7192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ерерывы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дыха и 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0"/>
          <p:cNvSpPr/>
          <p:nvPr/>
        </p:nvSpPr>
        <p:spPr>
          <a:xfrm>
            <a:off x="3203640" y="544500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щий выходно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1"/>
          <p:cNvSpPr/>
          <p:nvPr/>
        </p:nvSpPr>
        <p:spPr>
          <a:xfrm>
            <a:off x="3203640" y="602136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6300720" y="5589720"/>
            <a:ext cx="259236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инимальный разм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ы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34"/>
          <p:cNvSpPr/>
          <p:nvPr/>
        </p:nvSpPr>
        <p:spPr>
          <a:xfrm>
            <a:off x="6373800" y="451008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а работы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6373800" y="328464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и выпла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работной пл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4788000" y="765000"/>
            <a:ext cx="3816360" cy="547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79280" y="1989000"/>
            <a:ext cx="4176720" cy="3240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714560" y="907920"/>
            <a:ext cx="432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Picture 5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250920" y="1989000"/>
            <a:ext cx="4321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6"/>
          <p:cNvSpPr txBox="1"/>
          <p:nvPr/>
        </p:nvSpPr>
        <p:spPr>
          <a:xfrm rot="19952400">
            <a:off x="0" y="2205000"/>
            <a:ext cx="87249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!!!</a:t>
            </a:r>
            <a:endParaRPr b="0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j0178279"/>
          <p:cNvPicPr/>
          <p:nvPr/>
        </p:nvPicPr>
        <p:blipFill>
          <a:blip r:embed="rId1"/>
          <a:stretch/>
        </p:blipFill>
        <p:spPr>
          <a:xfrm>
            <a:off x="-36360" y="-2700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95640" y="69228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0" y="1579680"/>
            <a:ext cx="914400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04_1"/>
          <p:cNvPicPr/>
          <p:nvPr/>
        </p:nvPicPr>
        <p:blipFill>
          <a:blip r:embed="rId2"/>
          <a:stretch/>
        </p:blipFill>
        <p:spPr>
          <a:xfrm>
            <a:off x="1979640" y="119160"/>
            <a:ext cx="5086440" cy="381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Bus_big"/>
          <p:cNvPicPr/>
          <p:nvPr/>
        </p:nvPicPr>
        <p:blipFill>
          <a:blip r:embed="rId3"/>
          <a:stretch/>
        </p:blipFill>
        <p:spPr>
          <a:xfrm>
            <a:off x="142920" y="2781360"/>
            <a:ext cx="5292720" cy="2585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Mercedes_o345_Conecto_C_abb"/>
          <p:cNvPicPr/>
          <p:nvPr/>
        </p:nvPicPr>
        <p:blipFill>
          <a:blip r:embed="rId4"/>
          <a:stretch/>
        </p:blipFill>
        <p:spPr>
          <a:xfrm>
            <a:off x="4356000" y="37162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539640" y="5950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Прик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643880" cy="14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К РФ п.1 Ст. 2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.1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321300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ГК РФ п. 2 Ст. 20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К РФ п. 1 Ст. 3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500508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9"/>
          <p:cNvSpPr/>
          <p:nvPr/>
        </p:nvSpPr>
        <p:spPr>
          <a:xfrm>
            <a:off x="4500720" y="4365720"/>
            <a:ext cx="43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468360" y="5445000"/>
            <a:ext cx="7775640" cy="1079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условия,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и которых возникают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79280" y="3284640"/>
            <a:ext cx="92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50920" y="3213000"/>
            <a:ext cx="86421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»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ГК РФ п. 2,4 Ст. 33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98764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132000" y="35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516720" y="42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С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250920" y="522936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68360" y="5373720"/>
            <a:ext cx="8316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бщая модел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Если…, то…, а в противном случае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258920" y="1125360"/>
            <a:ext cx="63514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» (ГК РФ п. 2,4 Ст. 33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55:13Z</dcterms:created>
  <dc:creator>User</dc:creator>
  <dc:description/>
  <dc:language>en-US</dc:language>
  <cp:lastModifiedBy>LEGION</cp:lastModifiedBy>
  <dcterms:modified xsi:type="dcterms:W3CDTF">2015-01-28T08:25:49Z</dcterms:modified>
  <cp:revision>37</cp:revision>
  <dc:subject/>
  <dc:title>Норма права</dc:title>
</cp:coreProperties>
</file>